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</p:sldMasterIdLst>
  <p:notesMasterIdLst>
    <p:notesMasterId r:id="rId34"/>
  </p:notesMasterIdLst>
  <p:sldIdLst>
    <p:sldId id="256" r:id="rId35"/>
    <p:sldId id="257" r:id="rId36"/>
    <p:sldId id="258" r:id="rId37"/>
    <p:sldId id="259" r:id="rId38"/>
    <p:sldId id="260" r:id="rId39"/>
    <p:sldId id="261" r:id="rId40"/>
    <p:sldId id="262" r:id="rId41"/>
    <p:sldId id="263" r:id="rId42"/>
    <p:sldId id="264" r:id="rId43"/>
    <p:sldId id="265" r:id="rId44"/>
    <p:sldId id="266" r:id="rId45"/>
    <p:sldId id="267" r:id="rId46"/>
    <p:sldId id="268" r:id="rId47"/>
    <p:sldId id="269" r:id="rId48"/>
    <p:sldId id="270" r:id="rId49"/>
    <p:sldId id="271" r:id="rId50"/>
    <p:sldId id="272" r:id="rId51"/>
    <p:sldId id="273" r:id="rId52"/>
    <p:sldId id="274" r:id="rId53"/>
    <p:sldId id="275" r:id="rId54"/>
    <p:sldId id="276" r:id="rId55"/>
    <p:sldId id="277" r:id="rId56"/>
    <p:sldId id="27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notesMaster" Target="notesMasters/notesMaster1.xml"/><Relationship Id="rId35" Type="http://schemas.openxmlformats.org/officeDocument/2006/relationships/slide" Target="slides/slide1.xml"/><Relationship Id="rId36" Type="http://schemas.openxmlformats.org/officeDocument/2006/relationships/slide" Target="slides/slide2.xml"/><Relationship Id="rId37" Type="http://schemas.openxmlformats.org/officeDocument/2006/relationships/slide" Target="slides/slide3.xml"/><Relationship Id="rId38" Type="http://schemas.openxmlformats.org/officeDocument/2006/relationships/slide" Target="slides/slide4.xml"/><Relationship Id="rId39" Type="http://schemas.openxmlformats.org/officeDocument/2006/relationships/slide" Target="slides/slide5.xml"/><Relationship Id="rId40" Type="http://schemas.openxmlformats.org/officeDocument/2006/relationships/slide" Target="slides/slide6.xml"/><Relationship Id="rId41" Type="http://schemas.openxmlformats.org/officeDocument/2006/relationships/slide" Target="slides/slide7.xml"/><Relationship Id="rId42" Type="http://schemas.openxmlformats.org/officeDocument/2006/relationships/slide" Target="slides/slide8.xml"/><Relationship Id="rId43" Type="http://schemas.openxmlformats.org/officeDocument/2006/relationships/slide" Target="slides/slide9.xml"/><Relationship Id="rId44" Type="http://schemas.openxmlformats.org/officeDocument/2006/relationships/slide" Target="slides/slide10.xml"/><Relationship Id="rId45" Type="http://schemas.openxmlformats.org/officeDocument/2006/relationships/slide" Target="slides/slide11.xml"/><Relationship Id="rId46" Type="http://schemas.openxmlformats.org/officeDocument/2006/relationships/slide" Target="slides/slide12.xml"/><Relationship Id="rId47" Type="http://schemas.openxmlformats.org/officeDocument/2006/relationships/slide" Target="slides/slide13.xml"/><Relationship Id="rId48" Type="http://schemas.openxmlformats.org/officeDocument/2006/relationships/slide" Target="slides/slide14.xml"/><Relationship Id="rId49" Type="http://schemas.openxmlformats.org/officeDocument/2006/relationships/slide" Target="slides/slide15.xml"/><Relationship Id="rId50" Type="http://schemas.openxmlformats.org/officeDocument/2006/relationships/slide" Target="slides/slide16.xml"/><Relationship Id="rId51" Type="http://schemas.openxmlformats.org/officeDocument/2006/relationships/slide" Target="slides/slide17.xml"/><Relationship Id="rId52" Type="http://schemas.openxmlformats.org/officeDocument/2006/relationships/slide" Target="slides/slide18.xml"/><Relationship Id="rId53" Type="http://schemas.openxmlformats.org/officeDocument/2006/relationships/slide" Target="slides/slide19.xml"/><Relationship Id="rId54" Type="http://schemas.openxmlformats.org/officeDocument/2006/relationships/slide" Target="slides/slide20.xml"/><Relationship Id="rId55" Type="http://schemas.openxmlformats.org/officeDocument/2006/relationships/slide" Target="slides/slide21.xml"/><Relationship Id="rId56" Type="http://schemas.openxmlformats.org/officeDocument/2006/relationships/slide" Target="slides/slide22.xml"/><Relationship Id="rId57" Type="http://schemas.openxmlformats.org/officeDocument/2006/relationships/slide" Target="slides/slide2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 type="dt" idx="5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 type="ftr" idx="6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 type="sldNum" idx="6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43D6-D525-41FD-AE99-5D2C40B9B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02CC-9955-4DD4-9E7A-5F0C40916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D8DC-70AB-4CB1-A099-89BD8D825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BD14-2E50-4535-A9E5-ABDF00CBB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3706-818F-428B-A8A8-FA75FECD2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C8C4-E549-4F6B-8870-0E6D0EF6A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3234-BD83-49A9-BC48-7A9A71D3C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489A-8851-4A4C-BFF4-25B4C8AF5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3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CDB8-B1CE-4183-9511-40B8BF079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8A25-950C-4B1C-9A67-3E10251B3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9180-1F65-454A-B003-0D9E24513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99EE-4F50-46FD-8E2B-84327F731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4444-3666-4B42-BB50-3C3C1F2F8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3BA3-7D4E-4E63-B96E-A8E482B4E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78DF-EB17-47BC-8A80-60C3A1E25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656A-7180-4BAF-BEF9-822AE20CD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F38A-16F6-4748-A3D6-2EA98BFE3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B485-F82B-4900-AD9F-F76FA53B4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9840-8A75-4392-9605-7CC12B39A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F3A9E-60C8-49AD-8DED-18C003F99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FE2B-ADBA-44E6-A66A-76A49341C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8EA0-4EA1-4D3A-B53D-3BE4CB571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6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DE7D-A507-4903-898D-77FE2D462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9FEF-B301-4703-A2B1-CC7A2569E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6F3D-F980-4E7B-B5A4-D3163085B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BFEA-99F8-40F5-8D8B-971B140DA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59A3-07F0-4358-AC12-F4DA9AFD0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C058-CB6B-401A-A405-C2D395CEE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13F4-9E67-4656-9E2E-D151D04A7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87FF-0631-4E8E-A1C0-AE271C31C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A9B0-5C71-4C83-B3D1-7D50BD905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0BAB-84BB-4D0A-8912-51CE1831E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207A-7D54-4FB7-AED0-0F288A32E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CCF1-9601-4B87-86C2-800FFD447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F655-AA6C-46BA-8D4F-B06D5BF82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8182-9A6C-4750-8F09-E93C90F44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F041-1108-49C8-80B3-D73FD9918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FF52-0575-4540-8A3F-DB3E46D92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4CBB-3904-4FE0-959D-EDC729672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B489-8A80-466E-9302-F1BA788BD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FE57-A5B9-4AFC-AE18-87D1CEB09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2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28DC9-636A-439C-A4A2-07D810D1A8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438FE-357A-48A8-9EA3-21674FC5A94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BB6019-EFFB-4A6D-9484-78457E97AEE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5BC68D-40E6-4409-BCD8-5449D6CE2CF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07325B-1FF5-4C9B-B4B0-927FE7DBF0D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02D50F-475D-4376-AADA-BAEFC3B3887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EABACB-5569-4C64-8D4C-D9C7C46B229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00456C-7BCE-4E2F-9B0A-89E792CD191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4A5AEF-DA49-4A3B-A667-9171A0BA445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E2BFC7-FE35-4D11-8E5B-75FB0A86F4A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88C624-7C9C-48B3-8019-0323A00C3CA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EF6D2D-B635-48C0-8118-114642AD08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92020-89B9-4AD6-AA9D-08FC41CF064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C1AAF1-E3C5-4B26-A3D0-189ABD844FC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5A97E5-F3F1-4FDA-BED6-63526902F9D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02AF08-1030-449F-A97A-2303300D713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0E1519-C4D4-4A46-B42E-E25AFC6E29E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047A21-8B0E-420F-B1EA-A2575D8D1D3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D8738B-C136-45C0-AA24-4EAD6C3919E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9A84C7-3374-4255-B491-42F3FA00C47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D6D2DF-8452-4D2C-B771-8B87F399368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6327B2-00A9-42DD-80DB-0BCA0B0DDF9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DCAC2F-5B90-45EF-9D85-77ACFA608D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DE3AB-D061-459D-B739-E735245F23A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977629-A45D-46A1-8071-2A6556B00AE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9362F-4574-46D8-B349-B84C3BB1B25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BBE80-32C1-4403-86F9-D8E267D7B69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FE3CA-9E87-4603-BF66-014F21332D5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094F8-7EB9-4396-B8FC-96FA0742A69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F84FB-4CE3-43B4-BEB6-4549C4C7EA8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40990-95DB-4616-8143-B6646F8939A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FD712-19FD-49E5-A4AD-498B40894B7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F2751-E7A4-4DA1-93CF-9942141CF97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CF68F-22FA-4E26-8A7C-7B8FFD2C91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8A212A-59DB-49C9-B9CC-8906ABE20FB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FEB84-09DE-4BE6-B2FC-F00420F79E5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C3BE1-1B25-4E8E-9CE2-26BCECDE64E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D9667-11AD-4DF3-9C10-6A835E73037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E141DB-E38D-4C53-BD30-D87745120D5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FEFE6C-2217-4EFA-BE8A-8469F07DD56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16EABD-CC2A-4A52-9F31-E5A68116DC2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870563-C31A-4A81-8C53-B7089F196A9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EB79F3-6970-491F-9636-0F64CF95051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ABAFCE-4267-4F94-A2CB-CD9993547E5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051417-0767-4348-8D97-7F49CA1AD4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4D826E-5282-4650-940E-7E8C391D384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5D5F02-52DF-4A90-8FE0-ED51B7B2411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ED38D9-ACBB-481B-99D9-03E7D74A477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E602B4-42ED-438D-ADDC-18EA0703324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1A3E88-A480-4322-BAEB-B4A23D17B78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84D482-EB6B-401E-8147-79335562D87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2F8DC2-DB8B-4975-93B7-CA2BCA75F1A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71EA48-5DA3-4A2C-9287-0AD7B8CBB46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FA6751-C636-4C65-B1C0-14508F2239E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87F367-3DFE-4547-970F-7D811A2BED0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017A06-38C8-4D3C-B96A-B16420A2FE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D19E10-2E03-4733-AAE6-736B605A89B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97E4E1-9547-4C84-9506-80AE55B1939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F6AAE8-3416-4856-8CB6-41E10B3D3EF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8A153C-A723-4DAE-B495-CF5E6045773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89E5EB-9963-4C7D-BD68-4712E609AB5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E72103-3E8B-4FF1-B20B-318E0AB2300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18920A-395D-483E-8DBD-CBC2C051633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AB0529-E9A2-467E-88FE-394D680C76F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467AA-7CD2-486E-88F1-0B92D11A1BB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64F1B-6C93-43DF-BA58-D26159D654AC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6742A-4265-4A72-9B44-9ED8B50732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5AC69-1131-4856-A2A9-06FD5BC6A29F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FF2CF-56EB-4A9A-9DE9-8CDC90D004B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4A286-6F06-48B3-9558-E3A8F3CCB35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8B550-F376-4615-8D0F-A445856F90F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5B5FA-E99E-4A35-A99F-37E91D164EE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84BA8-3BCA-4010-A7B9-730730E2E04A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E72D4-5F0F-4C38-84F9-895D65430A4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FAEF4-DA45-44AD-9D4C-4616AB1A71AC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93155-61F3-467F-A36C-D6569B83D5E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FED95-D0B0-4D5A-8A9E-24FD7B2EE4AD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966498-5208-4646-91D0-FB7944BEC7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0BE5C-E588-4182-ACA4-E719EA61DDBC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60CC6D-711A-4CFB-858E-0AB309BB738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7DE5E5-399C-48BE-AA68-290D5C964FBB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5ACA67-C4FB-42A9-BC33-C77AFF3EFDF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65BAC8-DBC1-4A0F-9F2E-27A259100241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996D4C-F2DF-4F3C-8712-F5396FDF012C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3CFDCF-6917-44D1-93F3-1B0E5A250C8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22570D-63DC-4B37-AB7E-A76271860BF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F178ED-1B88-4F42-9748-0AAAE82B775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A888A2-4E41-48CC-9F24-BEC41D1D085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9360CC-D71E-45B9-A56B-70DCFC18AA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1F6463-1670-41AD-8710-F0B8DE2DCBCC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9CA977-90F8-436E-8CBC-E207C778E542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893A0C-3265-41E6-8965-341176F5AEDC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245D52-EED4-4CBE-9C9F-36E43FCC012B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04FA41-6D76-4D27-A7C2-D464041F96A4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245E60-B0FE-4130-841A-04FC52B3DA11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293AD5-2607-42FD-91E5-AF2BEA9D07B4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30C9CF-9D4C-47ED-9397-CFC403F0FE21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A58773-1FE6-4348-9E53-D221CD10B26C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4E5A03-D6B6-444E-BD40-F659CC869279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325098-DFE4-4F41-BAE0-3932A22D75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33B1C7-77A0-4773-B62D-F91151EC1A6F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5A78B6-F078-465F-8B45-07E481B6FAF8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278BBF-52B1-430C-888B-243CFB87F268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033B1C-F64C-444E-BE47-BC47DC872A04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1BD5D7-8133-4400-BC34-78FA5D1F86ED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8D7AE6-2559-457C-B170-4CC435CD1867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81CFDE-89D2-436E-B075-59A3B308CF42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68E6F3-3E84-4355-83D1-6775CDAC7A56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CD9843-378A-4342-B10D-7A3C435155EA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325778-45EE-4482-B4BC-9632D4CFE3CE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91F2FE-C033-4D40-874F-E6431BAC64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79D5A-B4FA-4E73-BF38-2CFD7AE13F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96191-DA3B-408E-AADD-236EA7420388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63F5E-D967-4C30-A503-432475FFB234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78348E-37E7-4BA0-B1BE-86362C662A00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CECF51-CE3B-4D0B-9B78-992212586E4A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E420B0-6C59-4C3C-96F3-397795F12753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7AF632-5A1F-4508-BE81-C0FE999BE105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C8A52B7-ED11-462C-838C-1733EC3A16C5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06C593-3547-4F88-A637-62D3ADEDA940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4AAB261-581D-44A0-9370-2356B32BA5BC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1704B81-7304-4F68-B2EA-A8028E90D603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49DBABE-B116-4543-B3D2-592E6F9204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F1FF6A-E542-4748-9838-2C273F92C240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B3F40CE-2FD3-4265-8A12-E5D63952F071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3C50894-88D2-40F7-9953-2AAE1BF871B1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41B96B3-955C-475E-B807-DD9DFF5C840B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4EA3D15-F07B-4A9B-9521-2D0287ADB674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613ED59-259F-4C05-BC90-530E3F471728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AF6F6A2-C903-4CB8-B878-EE6CDDE13289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371FA5B-AE10-4499-8A1C-8592E49289FC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4C1759-A9EF-4911-9E8F-F9AD398EF715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547C5A-7DA1-419F-8A99-05B32CCA64C5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868FD0-0C74-44AE-9BC7-DE470BBE87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ED6965-9665-406C-AA06-800D0250800F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6F50E5-4847-4B9F-ABE0-252123D0B173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EC6F14-E4B1-4377-AFE5-727A30AAC864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E32F47-F21A-4041-9DB5-4F4BE8759BAE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8E9BD3-6148-4D95-97F4-B00A78650B1D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F15F22-469D-423E-8B69-D238D47CF784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EB0C0E-049F-4E1E-922C-ABE639D15AAD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47EC07-9C4C-47B4-938F-E24DD06FF24F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BABA55-7FB7-4EC2-83EF-4391629EF974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225147-14AF-48C9-808A-3A12B9C4A305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759EC5-9E72-4CFA-87DC-A10F14AA7D82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5FBDD-0A87-4568-A80C-C1642503DE3D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9AE7BD-548A-458B-90F3-DB90F0B97D79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55C50C-6DCC-470A-8421-91AEA4E84FED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723853-E23F-4185-8B8F-5138512F7BF5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007F1E-8605-49A6-82AD-AC17CF4D4CDF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025287-9659-4262-A4CE-D2D8DF815440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CAB740-9F59-47AE-808A-E8731E56A0A9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5A1E97-CF23-4555-8625-A3B9789414E7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0B3E46-52FC-4EC9-88D0-E0199700B20E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54DC68-0B71-488F-A07E-B8FE20FF5CF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17183-E4E2-4687-A98F-B1120535ECC7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9963A9-AF3D-4F98-A477-D9FC19787A7C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A9D1C7-D663-4B75-AE46-850691CAB5D2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FFF821-960E-411C-8CA8-0119EFB64609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8FCA3F-96F2-44A6-83D0-55C8921B760B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C3BA07-013A-4B06-80BA-AA3E657C9336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42BC5B-C25C-456A-87E3-C8046E5E2C05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1984D5-4C13-4E57-85F9-11F3C59E5D1F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DD883C-AD72-44EC-9E38-1E75C4190C61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97D679E-AADB-43B4-BD16-DC582C89C43A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5371216-7820-4EA4-A4FD-195F7BC963A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CD0E9-086E-496C-AC5D-E2A024FD2390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1BA6B8-02B0-48F5-B5C0-33D32CBAA674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DFB8DC6-260D-4AA2-BB8C-73BF307F2234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C03BDA6-841D-49B5-A3C7-97BB2EA78673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BAF1D5-0838-48AA-B3CB-5BE249C97F13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198DEAA-7C4E-4491-8EE2-06683B94AB38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0439233-14BE-4C13-8549-ABD7304D3B18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87CB982-9176-4594-B18B-6A9C8AB572D7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92BC019-E82C-44EF-98AD-E5D55E6210D0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70D1B31-91E7-4855-B194-0C8ADDF09B91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23EEDD7-82A6-4237-A312-8DE4761482F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FA9B-DCC1-4EB5-8199-4F7C3CA3B25B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3928F76-B73C-4731-81E6-13EE7A896E3E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7CD0E62-18FB-4310-9C49-0265F6DBA873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84E58CF-A4E5-46E5-921D-3B6F4157E2A8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03A3AFB-57F5-4147-BBD1-A5FBA45EF2A7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3F30A3C-5C0B-4187-A5AE-EF9961A58CF9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B68B511-1AB0-485E-AC29-99F4A4E85ABA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AE12B30-EA56-4539-B536-1BB1AE71F8A1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3AB77D-DA4C-4ADD-BF23-304BA39A2953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43E3F1-FE75-4533-B00D-D15EB2F62D03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9D474A-DB53-4E34-9D1A-56BCB4F517D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E187-044F-4F48-ABE7-51CFB4729105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803752-B34B-4D1E-A516-07510FEFBA24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2EA39A-AA5D-4137-8D42-E482B62C96B9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001D80-C8C3-4C79-A7D5-D65AEE182C79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D35FDC-525C-4171-A42B-FD894282ED3C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0DA849-3941-4004-89C3-6AD372503689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978AB9-4556-4490-BEC8-62C804DDFF4A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1A5E8C-4680-42CF-A364-FE7C2D447E18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EAC462-CA2D-47AA-A0A9-FAE923617558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12223B-9900-4476-A4DA-2CC2F6CEE9C5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12C84EF-A06F-4A50-83DF-8C9482C3738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B389-32B2-46E9-A3DA-E884A65E97ED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76A22C6-9773-43B2-90FC-E34206DAFCCC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316672D-59D8-47A3-BE95-A6F5076A9F75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947CFF9-4F91-4E39-836B-F92DC867D6CE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31E3491-9699-4223-9EFC-A208684C45E1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7D0CD39-CEA8-4F4E-B018-1BBA7BDEDB4D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0367811-BFB4-486F-BBCD-9C572E4B956C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6D8ED97-4FA9-4064-8158-6511A0B5A3F4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C36953A-C509-4C47-BCF3-9703F6D43C99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C6622DE-BFC8-40F7-B469-B354E24998E8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3759D4A-89ED-433C-BB3A-1FEF932BD5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2E46C-E11F-47DD-AA5F-9EFCB97AB30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870C-F682-483D-B073-99F926F33CEE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8A85344-F64C-4188-AB76-77BBF0BDB4D7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C75EE89-AB74-4055-B8B2-FC52C547082B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E66C99F-CA70-4911-A86C-3712A983FD75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61D0EBB-B03C-4FF0-8EFB-B8BEE0FDFD26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6609E31-9F3D-4914-8719-F8C2D12EB0AD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99BC0A6-09C8-45FE-BE9E-45ACA0E5F73D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990C074-7DD1-4891-AE91-40844DE53F22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CD11FAC-BA37-4D42-B6EF-B039C38103C6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D41AC0B-FED6-4442-991B-568C6C26B1C0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7F4C5A0-681D-417A-A4F9-080BE628775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E49DF-9B2F-4425-9763-C78612EDC2E3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14507CC-C882-4569-AEEE-50A7673E9319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676061C-CEFA-45FE-8F95-2E8F9FDEF005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3E9FEC8-3ADC-45C1-83A5-292546CAE834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072B3B-45E3-4523-9C85-219230873F6B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A72CA2-A862-4CB7-8D4A-C7FF731FC142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432F63-CB8D-452F-B7ED-1C691418BD14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950CDF-C8CA-4F65-B715-A3282E9C369D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8E646F-0724-448F-AC4E-F8F29B2B0D2A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643F76-0438-4F1A-B724-72FE11F6EEFD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E95E30-0022-4355-8A9B-C50D217959D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05449-7D03-4576-9B47-6A0BEAB5D182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03CF39-BF3B-41E7-8703-15788D41A4C3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9B6C34-7E3F-4A64-A560-FCA4ABF372A4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765B5A-4BF2-42EA-ABB6-90D60650247D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281547-0BB3-4CFC-87B0-53932EC2AAFD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2BD08A-11E9-44FC-A444-E43B2E53803B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5FAB3FF-0BBA-433D-A3BC-D245C9387A4B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19F9293-6916-481E-A45D-DAD6522E4B02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46E5C5C-1A19-4D32-8C61-59C055968917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C3644AB-9FCA-4F6A-9D65-97A420C527E4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EFD5855-6C28-4408-9D07-50FFDCD192E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8AE7-B1AB-46FB-B30E-6E34FEEEF3E1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8418F1C-FA65-4E79-8D61-60006EDE650F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36D1198-09AF-42F6-AD5E-EF61399A94FD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A8B8A55-0AAC-40D8-934E-6655E6BBA10E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DD7BD0D-F615-44C1-A4CF-A73E0F14FB1E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0004F93-D3B8-4EF0-A24E-138AD2017118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B31A947-5AD9-42DE-805F-67BD1553B03B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7494405-AB70-4770-82B5-B11E964515D3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ED700E2-10BB-41E9-8770-71B29E83A768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EA0E2E5-15B9-4BFD-AC34-273F7BB741A5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28C0377-CBA7-4807-8055-64E5DE5068F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3335-830F-447B-A205-42206DC81408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9A307C3-7735-4D51-A77C-A4B738901A0F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8FECDB5-398D-4C8E-8C3B-693712280EBE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2B8A96D-6DA1-49A0-9411-962583A9E85E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1C044EE-A790-4711-B058-A3DB4449BFFB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B0E9F28-7F24-434D-82A4-B2126A1297DC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892A2E1-0751-41FB-9359-B6BB70CA5F46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816514E-CC1A-40CE-BA14-0873E2D0C0B8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A56CC59-80B3-498F-A9EF-A970BF5A7280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849A1A4-26F3-44CF-841F-ECBD65F3551C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B19C61-990C-4C14-8BBA-2BC80ACF775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5D0C-C44D-4718-9AD9-E8F0DF01CFF1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8D3ADA-1C0A-4447-97CA-8EF159B9F7E8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72FE7D-5F3B-4D6E-AAFE-027D4CB1A0ED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50A756-5589-4DFF-81D1-73E6C18A2CB4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C51CD2-C4EF-4908-BEC7-9DB1AC1F3579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78CB72-73DE-4D54-95F0-3AAF1B9EAC0C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8BBCC4-1098-47BF-8DEC-E58E640AD278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86E4F8-3F7A-40BF-824B-0556CEAB00B8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821EB4-7952-4C3F-93CE-758BE6C1A8A9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7DBB79-E338-44D1-A148-D2BF148E5C4F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54384D-79AF-401D-874A-72A0D118946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E3B9-7602-47D6-B6F3-3802DC6161F5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4D8C03-1B3D-46FF-8805-D9F9A3EA8174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FEB6596-1A63-45E7-BB35-FB9D2C12E3D8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BBCD496-FCA9-41C1-A027-A38FEBEC2060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0020F6F-0C96-4E00-8BFB-57D92BF19AB6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58FAAA7-9A2D-432B-83E0-35945B47ECC7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E805AFB-417C-40A9-83DC-03BCC3DF22ED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2A151CE-5178-4A60-BF2C-8D9644EB1E7A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EA67EED-238D-445D-ACF5-02D978E9556E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0E04EE4-14CA-47A4-8C27-77D9AFED6E4E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82AB60F-7C82-4B25-94D5-9FC98F63379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2EF2C5-27D7-4D9B-A2D4-504F8C553FEE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418F3E3-8D7C-47D3-98F2-4DF0AF6B242C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AC82C8F-3E33-4047-93BB-FAE7B52051EB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0D2E2F2-490D-4798-BD06-5E617D51FC05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C8BB975-A2B9-40FD-AF1E-2417CC4E5696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04E170B-151E-4B31-96BB-6BFBE62FD45B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6C23753-75CD-4855-B238-75599E78051D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D2BAE99-0077-4CD4-A9BF-C2913E017CCD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4F8BD2B-9FF4-4462-9E03-77FFA66CCB0E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AB66A50-1197-4BEA-8E8C-FF988790F86C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C33B456-5FE1-4FB2-98A1-2890E0A4B01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8B87A0-EC05-4D06-9EA9-5FD6C5DB00E9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379AF15-450E-4897-9BA2-D67A64F73A44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EF4B8D5-D9C4-48B4-9691-DA03C0E0F63B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E26A772-3A92-4781-9023-FBD4A1B72A56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99DC901-311A-43C4-A5AB-BAEE82627BE6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E331685-93D3-4047-A463-0BC1D71DB52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941BB9-A6A9-4540-A894-FAE7C59B96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4C5D3-E6C0-459A-899A-89C9A344773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A2991B-D2BF-4258-A62D-55B89B3119F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EBBCEC-E90A-40EC-BA03-EF4F88692F2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34D299-8E24-434B-AC92-681E344A2FB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BE6BED-2F65-4519-8023-1F07942D632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4C9959-8320-4FDA-906D-F6C7D871DD3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4C1B67-1685-41B4-BB0E-5313BB8BA5F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CC6358-B5B1-4BF8-B304-70897AB9259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D27EEB-86FA-48A2-B87C-BEAD412FE9F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5EB812-D01C-4A42-A136-13CFF01D2D4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07DA2-7A03-4FB9-A7FC-EB58DF1533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FE88B-F55F-41DC-8BA6-D0FC1210A5E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9A0DC-5AD9-48F7-A3A0-E8ADCEF1DB5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E4541-F9A1-419C-B0C3-164C9607B15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92A8E-348A-4157-A161-E15E70C0BF9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45E25-0357-45D6-AECB-EFC14A8CC4C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179D3-6C04-4303-9C55-0B473EF8192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D6824-9C13-4404-808B-6EF399BE3A4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0A51C-4034-4AFC-94B4-D0C7237A22C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04311-BE2C-499F-89BC-7B9017EC61F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299F1-DE13-4D5C-ACE7-2AC575071B9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30FDD-DE63-4501-A174-E40A52F221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C0D72-7436-4AB7-88F0-51E37BE032B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230E7-CBC8-4916-AA71-D128E9F3330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D20421-5460-40AE-AB40-37F6CF808C6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5B8458-030F-4575-BC76-2CC65C93974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1FC4AA-000D-4291-8D4B-62A4B95FAF7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FF4171-3B33-498B-8875-5A6F7B33682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4A0CDB-AECA-4E75-9F75-6F427499CD5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124CEE-4250-4296-8885-A89CA3CCEF1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C0E675-7235-499C-96AA-DF77DA272C4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1166D4-86A3-4C91-B197-27D6E3C53FB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A460FF-1D9E-4321-B777-E8C2408C00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7654A-F060-40F0-90DC-0AD7E26701D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2F2448-C798-4D45-B87B-4925286CCBC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BFCD14-FFA5-474A-A9A4-45BB05419B6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57090C-E343-44E0-BFE1-7FF200CC2B7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D803A-7E0F-42A1-98F9-676B99AA0D2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EB746-73CB-4A66-86BD-7C945025BE8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08831-6642-479C-9C08-BE9D0703230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72704-BBA3-46B6-B286-BE0BF01B1CC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A3F34-4B91-485B-A886-E5C8AF1D785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1D876-33E6-4608-A6B6-CAE0EF6162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F1FCB-45B8-4B7E-B715-A91F367EAAD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1B6B1-9136-4B6E-80CB-E1A86B43451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12596-14C5-4A7B-A877-C63ACACBFE2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AA7B0-4505-4551-B049-306F9816C23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4780D-2E71-4ADE-8A0D-B456CE61AD4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B6E45-EEC9-4835-83FA-DD7765848FB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9F812-B173-4189-B288-D25374BCF54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5FBAD-B6CA-47B3-86EC-639ACDEFB23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BF0C20-6641-471F-95D8-07C98E4D7ED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508F7C-BECA-4DC2-BEA2-FACA6BF6E22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8AF0E5-7B2D-4245-BF34-5AAF6E90AD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309000"/>
            <a:ext cx="5257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8303-8B85-4A8E-8C38-4BF6DADA4D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ftr" idx="1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sldNum" idx="1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3248-DA9A-4813-B7C9-2541B54239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ftr" idx="1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sldNum" idx="1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C7E1-C488-4397-BF5E-A364DB7AF2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ftr" idx="1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sldNum" idx="2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2710-85BF-4016-A721-15BE07E9F5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ftr" idx="2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sldNum" idx="2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B0DD-5A59-4A9A-92FB-38235B1D6D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ftr" idx="2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sldNum" idx="2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56A0-A165-47AD-8660-D4B121C8E9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ftr" idx="2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sldNum" idx="2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CC4D-36FB-4E4C-B02A-A89B930636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ftr" idx="2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sldNum" idx="2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AA11-E9A9-4EEA-883A-914A2AB8AB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ftr" idx="2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sldNum" idx="3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8B87-0063-439C-8DF8-D87158379F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 type="ftr" idx="3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 type="sldNum" idx="3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0D3B-937E-4FE5-9AEA-22E30028EA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ftr" idx="3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sldNum" idx="3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3CFD-86C1-4C8A-B62A-BE5ED6DBF2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AD922-AC76-4F36-B36D-2633ABC090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63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5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6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7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ftr" idx="3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 type="sldNum" idx="3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342F-9EFC-4994-9513-7F4BB26F06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ftr" idx="3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sldNum" idx="3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D942-9068-403A-8196-8EB30922FF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 type="ftr" idx="3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 type="sldNum" idx="4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7D0F-C4B6-4D57-9422-971C64FEFF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 type="ftr" idx="4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 type="sldNum" idx="4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081C-84DD-44B7-9461-C2E7F06499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 type="ftr" idx="4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 type="sldNum" idx="4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B59C9-1039-46AB-9017-F3B2AE5CEA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 type="ftr" idx="4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 type="sldNum" idx="4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88DF-A9D8-4F48-A8A9-7C78B4AD4F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ftr" idx="4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sldNum" idx="4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4963-CB1B-404A-9F36-2790A30687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 type="ftr" idx="4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 type="sldNum" idx="5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D101-A4B4-4C51-AE81-DFE49D69AC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 type="ftr" idx="5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 type="sldNum" idx="5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C485-0C31-433C-BE43-F90919E302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ftr" idx="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Num" idx="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9F15-CE2F-4B75-B7BB-FC92CB6A2E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 type="ftr" idx="5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 type="sldNum" idx="5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EA09-9039-4A5C-A114-77D88D734A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 type="ftr" idx="5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 type="sldNum" idx="5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145A-E30D-40F0-828B-693880BD5F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 type="ftr" idx="5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 type="sldNum" idx="5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B6BC-24AF-4784-8547-9CFE66C8BD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ftr" idx="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Num" idx="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1A36-B6B5-4BC9-9CFB-1E8B3BE16D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9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C657-87E4-42D5-9F42-B62219E627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5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10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9F07-23FF-4F12-9886-19D2D5030F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7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10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20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ftr" idx="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sldNum" idx="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7484-ACED-40BC-9528-13736BA97F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1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1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B825-C7EF-4F2C-BF5F-7A6CFA05F4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A980-EA37-4274-A4E1-1CA5BE36A1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27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630" name="Group 2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31" name="Rectangle 2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2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3" name="Group 2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34" name="Rectangle 2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Rectangle 2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Rectangle 2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Rectangle 2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Rectangle 3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Rectangle 3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Rectangle 3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Rectangle 3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Rectangle 3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Rectangle 3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4" name="Text Box 36"/>
          <p:cNvSpPr/>
          <p:nvPr/>
        </p:nvSpPr>
        <p:spPr>
          <a:xfrm>
            <a:off x="1882800" y="2328840"/>
            <a:ext cx="7184880" cy="16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труктура и содержание «Руководства по качеств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полнительный матери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5" name="Picture 37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AB22-2F19-42B0-880F-A58591CF7D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1"/>
          <p:cNvSpPr>
            <a:spLocks noGrp="1"/>
          </p:cNvSpPr>
          <p:nvPr>
            <p:ph/>
          </p:nvPr>
        </p:nvSpPr>
        <p:spPr>
          <a:xfrm>
            <a:off x="837720" y="1295280"/>
            <a:ext cx="8001000" cy="491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олжностные инструкции, включая требования к квалифик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писок сотруд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графическая схема организации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словия найма на работ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рганизация работы интернов и студ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0" name="Rectangle 4"/>
          <p:cNvSpPr/>
          <p:nvPr/>
        </p:nvSpPr>
        <p:spPr>
          <a:xfrm>
            <a:off x="609480" y="5320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4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ерсо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DA4C-ED3F-421F-82E9-A8603CA34F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5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нтроль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46784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ие руковод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кончательная версия документов: проверка, печатание, подписи, распростра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оддержание конфиденциа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, архив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составление отче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еречень справочных документов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руковод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книг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стать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5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C73A-613F-46DA-BDA2-5AF915F136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86108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2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6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омещения и окружающая сред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762120" y="1695240"/>
            <a:ext cx="8229600" cy="44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лан помещений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зоны ограниченного доступ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лабораторные знаки и указател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требования к окружающей среде в лаборатории (пространство, температура, водо- и электроснабжение, вентиляция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допустимые откло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554E-CE49-44A6-900F-9FD886AC2E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469800"/>
            <a:ext cx="8229600" cy="15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SimSun"/>
              </a:rPr>
              <a:t>7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Управление оборудованием, реагентами и расходными материалам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15328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кажите, что для каждого наименования оборудования должны быть задокументированные процедуры, обслуживание, контроль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еаген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заявки и пол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асходные материалы – установите порядок управ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2947-7109-459E-BADA-EEB8707711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609480" y="55224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8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Безопасност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бращение с пробами и материал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езинфек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струкции по пожарной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струкции по работе с опасными химическими веществ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даление отход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терилиза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маркировка материал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8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88BE-E6F6-4F79-9A63-79B1E59EAD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609480" y="572760"/>
            <a:ext cx="79250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9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ы до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947520" y="1482840"/>
            <a:ext cx="773892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ое оборуд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дготовка паци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дентификация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иготовление аликвот и предварительная обработка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транспорти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502C-1651-4F81-A603-50FB5EC7E7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380880" y="552240"/>
            <a:ext cx="7925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0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а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871200" y="1816200"/>
            <a:ext cx="7815240" cy="34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ое оборуд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ые реаг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алибровка / контроль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а анали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методы валидации/провер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34C4-B276-4AC6-BFB1-A5864BA819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1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а после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8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анализ результа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кончательная проверка биологических значен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спечатка/приготовление копии отчета с результа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едача отч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 (архивирование) отч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заимодействие с органами эпиднадз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7A93-6FE1-4663-BC7A-8DA3D0386B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533520" y="51408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2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нтроль качеств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09480" y="1272960"/>
            <a:ext cx="82296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напоминание о приверженности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сылка на процедуры контрол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боруд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еактив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мпетенций персона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раткое изложение всех процедур контроля качества и ссылки на соответствующие разделы «Руководства по качеству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C769-0C82-43FB-87AB-0B54D14729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7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95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3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рректирующие и предупреждающие действия, внутренний аудит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467840" cy="33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стоянное улучш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анализ и разбор всех проблем и ошиб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нутренние аудиты являются обязательными в соответствии со стандартом ИСО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1518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Slide Number Placeholder 4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3C60-81C1-45A2-860E-2AF6E6FE84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8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649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664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65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66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7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8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9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0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71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3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74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75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6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7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8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9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680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2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4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685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7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8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689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1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692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4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7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698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0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701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3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704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6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2423-CF7F-4450-9832-254203C398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труктура докум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Руководство по качеству»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ложите руководящие принцип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д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боч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стру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ор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7" name="Group 3"/>
          <p:cNvGrpSpPr/>
          <p:nvPr/>
        </p:nvGrpSpPr>
        <p:grpSpPr>
          <a:xfrm>
            <a:off x="5638680" y="2438280"/>
            <a:ext cx="3124440" cy="2935440"/>
            <a:chOff x="5638680" y="2438280"/>
            <a:chExt cx="3124440" cy="2935440"/>
          </a:xfrm>
        </p:grpSpPr>
        <p:pic>
          <p:nvPicPr>
            <p:cNvPr id="1788" name="Picture 4" descr="17_docs_structure"/>
            <p:cNvPicPr/>
            <p:nvPr/>
          </p:nvPicPr>
          <p:blipFill>
            <a:blip r:embed="rId1"/>
            <a:stretch/>
          </p:blipFill>
          <p:spPr>
            <a:xfrm>
              <a:off x="5638680" y="2438280"/>
              <a:ext cx="3124440" cy="29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9" name="TextBox 1"/>
            <p:cNvSpPr/>
            <p:nvPr/>
          </p:nvSpPr>
          <p:spPr>
            <a:xfrm>
              <a:off x="6095880" y="4572000"/>
              <a:ext cx="2057760" cy="64620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роцед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Рабочие инструк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TextBox 2"/>
            <p:cNvSpPr/>
            <p:nvPr/>
          </p:nvSpPr>
          <p:spPr>
            <a:xfrm>
              <a:off x="6545160" y="3777840"/>
              <a:ext cx="1159200" cy="369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роцес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8"/>
            <p:cNvSpPr/>
            <p:nvPr/>
          </p:nvSpPr>
          <p:spPr>
            <a:xfrm>
              <a:off x="6840000" y="3023640"/>
              <a:ext cx="648000" cy="360000"/>
            </a:xfrm>
            <a:prstGeom prst="rect">
              <a:avLst/>
            </a:prstGeom>
            <a:solidFill>
              <a:srgbClr val="78f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Narrow"/>
                  <a:ea typeface="Calibri"/>
                </a:rPr>
                <a:t>водящие принцип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TextBox 8"/>
            <p:cNvSpPr/>
            <p:nvPr/>
          </p:nvSpPr>
          <p:spPr>
            <a:xfrm>
              <a:off x="6948000" y="2819160"/>
              <a:ext cx="396000" cy="180000"/>
            </a:xfrm>
            <a:prstGeom prst="rect">
              <a:avLst/>
            </a:prstGeom>
            <a:solidFill>
              <a:srgbClr val="78f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Narrow"/>
                  <a:ea typeface="Calibri"/>
                </a:rPr>
                <a:t>Руко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3" name="Footer Placeholder 1"/>
          <p:cNvSpPr/>
          <p:nvPr/>
        </p:nvSpPr>
        <p:spPr>
          <a:xfrm>
            <a:off x="457200" y="64008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295E-A916-468C-BDAB-18223B5978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Управление документаци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797" name="Group 3"/>
          <p:cNvGrpSpPr/>
          <p:nvPr/>
        </p:nvGrpSpPr>
        <p:grpSpPr>
          <a:xfrm>
            <a:off x="4343400" y="4038480"/>
            <a:ext cx="3504960" cy="1981440"/>
            <a:chOff x="4343400" y="4038480"/>
            <a:chExt cx="3504960" cy="1981440"/>
          </a:xfrm>
        </p:grpSpPr>
        <p:sp>
          <p:nvSpPr>
            <p:cNvPr id="1798" name="Text Box 4"/>
            <p:cNvSpPr/>
            <p:nvPr/>
          </p:nvSpPr>
          <p:spPr>
            <a:xfrm>
              <a:off x="5099400" y="4159080"/>
              <a:ext cx="2064240" cy="48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Управление качеств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Oval 5"/>
            <p:cNvSpPr/>
            <p:nvPr/>
          </p:nvSpPr>
          <p:spPr>
            <a:xfrm>
              <a:off x="4343400" y="4038480"/>
              <a:ext cx="35049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Oval 7"/>
            <p:cNvSpPr/>
            <p:nvPr/>
          </p:nvSpPr>
          <p:spPr>
            <a:xfrm>
              <a:off x="6143040" y="4572000"/>
              <a:ext cx="1610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Oval 6"/>
            <p:cNvSpPr/>
            <p:nvPr/>
          </p:nvSpPr>
          <p:spPr>
            <a:xfrm>
              <a:off x="4437720" y="4572000"/>
              <a:ext cx="1610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Text Box 9"/>
            <p:cNvSpPr/>
            <p:nvPr/>
          </p:nvSpPr>
          <p:spPr>
            <a:xfrm>
              <a:off x="6143040" y="4840200"/>
              <a:ext cx="1705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Конкретные СО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Text Box 8"/>
            <p:cNvSpPr/>
            <p:nvPr/>
          </p:nvSpPr>
          <p:spPr>
            <a:xfrm>
              <a:off x="4635000" y="4778280"/>
              <a:ext cx="1231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Система кач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4" name="Group 10"/>
          <p:cNvGrpSpPr/>
          <p:nvPr/>
        </p:nvGrpSpPr>
        <p:grpSpPr>
          <a:xfrm>
            <a:off x="2362320" y="1600200"/>
            <a:ext cx="1936800" cy="1066680"/>
            <a:chOff x="2362320" y="1600200"/>
            <a:chExt cx="1936800" cy="1066680"/>
          </a:xfrm>
        </p:grpSpPr>
        <p:sp>
          <p:nvSpPr>
            <p:cNvPr id="1805" name="Oval 11"/>
            <p:cNvSpPr/>
            <p:nvPr/>
          </p:nvSpPr>
          <p:spPr>
            <a:xfrm>
              <a:off x="2362320" y="1600200"/>
              <a:ext cx="190512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Text Box 12"/>
            <p:cNvSpPr/>
            <p:nvPr/>
          </p:nvSpPr>
          <p:spPr>
            <a:xfrm>
              <a:off x="2391120" y="1817280"/>
              <a:ext cx="190800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Руководства по эксплуатаци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7" name="Group 13"/>
          <p:cNvGrpSpPr/>
          <p:nvPr/>
        </p:nvGrpSpPr>
        <p:grpSpPr>
          <a:xfrm>
            <a:off x="1143000" y="3809880"/>
            <a:ext cx="1371600" cy="1066680"/>
            <a:chOff x="1143000" y="3809880"/>
            <a:chExt cx="1371600" cy="1066680"/>
          </a:xfrm>
        </p:grpSpPr>
        <p:sp>
          <p:nvSpPr>
            <p:cNvPr id="1808" name="Text Box 14"/>
            <p:cNvSpPr/>
            <p:nvPr/>
          </p:nvSpPr>
          <p:spPr>
            <a:xfrm>
              <a:off x="1295640" y="41148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Книг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Oval 15"/>
            <p:cNvSpPr/>
            <p:nvPr/>
          </p:nvSpPr>
          <p:spPr>
            <a:xfrm>
              <a:off x="1143000" y="380988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0" name="Group 16"/>
          <p:cNvGrpSpPr/>
          <p:nvPr/>
        </p:nvGrpSpPr>
        <p:grpSpPr>
          <a:xfrm>
            <a:off x="1600200" y="2590920"/>
            <a:ext cx="1295280" cy="1066680"/>
            <a:chOff x="1600200" y="2590920"/>
            <a:chExt cx="1295280" cy="1066680"/>
          </a:xfrm>
        </p:grpSpPr>
        <p:sp>
          <p:nvSpPr>
            <p:cNvPr id="1811" name="Text Box 17"/>
            <p:cNvSpPr/>
            <p:nvPr/>
          </p:nvSpPr>
          <p:spPr>
            <a:xfrm>
              <a:off x="1676160" y="28954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Стать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Oval 18"/>
            <p:cNvSpPr/>
            <p:nvPr/>
          </p:nvSpPr>
          <p:spPr>
            <a:xfrm>
              <a:off x="1600200" y="25909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3" name="Group 19"/>
          <p:cNvGrpSpPr/>
          <p:nvPr/>
        </p:nvGrpSpPr>
        <p:grpSpPr>
          <a:xfrm>
            <a:off x="4552920" y="1371600"/>
            <a:ext cx="1619280" cy="1038240"/>
            <a:chOff x="4552920" y="1371600"/>
            <a:chExt cx="1619280" cy="1038240"/>
          </a:xfrm>
        </p:grpSpPr>
        <p:sp>
          <p:nvSpPr>
            <p:cNvPr id="1814" name="Text Box 20"/>
            <p:cNvSpPr/>
            <p:nvPr/>
          </p:nvSpPr>
          <p:spPr>
            <a:xfrm>
              <a:off x="4572000" y="152388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Тексты и зако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Oval 21"/>
            <p:cNvSpPr/>
            <p:nvPr/>
          </p:nvSpPr>
          <p:spPr>
            <a:xfrm>
              <a:off x="4552920" y="1371600"/>
              <a:ext cx="161928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6" name="Group 22"/>
          <p:cNvGrpSpPr/>
          <p:nvPr/>
        </p:nvGrpSpPr>
        <p:grpSpPr>
          <a:xfrm>
            <a:off x="1371600" y="5029200"/>
            <a:ext cx="1523880" cy="1066680"/>
            <a:chOff x="1371600" y="5029200"/>
            <a:chExt cx="1523880" cy="1066680"/>
          </a:xfrm>
        </p:grpSpPr>
        <p:sp>
          <p:nvSpPr>
            <p:cNvPr id="1817" name="Oval 23"/>
            <p:cNvSpPr/>
            <p:nvPr/>
          </p:nvSpPr>
          <p:spPr>
            <a:xfrm>
              <a:off x="1476000" y="50292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Text Box 24"/>
            <p:cNvSpPr/>
            <p:nvPr/>
          </p:nvSpPr>
          <p:spPr>
            <a:xfrm>
              <a:off x="1371600" y="53337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Проче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9" name="Line 25"/>
          <p:cNvSpPr/>
          <p:nvPr/>
        </p:nvSpPr>
        <p:spPr>
          <a:xfrm flipH="1">
            <a:off x="2742840" y="5410080"/>
            <a:ext cx="342900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Line 26"/>
          <p:cNvSpPr/>
          <p:nvPr/>
        </p:nvSpPr>
        <p:spPr>
          <a:xfrm flipH="1" flipV="1">
            <a:off x="2438280" y="4419720"/>
            <a:ext cx="2114640" cy="45720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Line 27"/>
          <p:cNvSpPr/>
          <p:nvPr/>
        </p:nvSpPr>
        <p:spPr>
          <a:xfrm flipV="1">
            <a:off x="5099040" y="2437920"/>
            <a:ext cx="82440" cy="213372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Line 28"/>
          <p:cNvSpPr/>
          <p:nvPr/>
        </p:nvSpPr>
        <p:spPr>
          <a:xfrm flipH="1" flipV="1">
            <a:off x="2895480" y="3352680"/>
            <a:ext cx="3353040" cy="1524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Line 29"/>
          <p:cNvSpPr/>
          <p:nvPr/>
        </p:nvSpPr>
        <p:spPr>
          <a:xfrm flipH="1" flipV="1">
            <a:off x="3885840" y="2590920"/>
            <a:ext cx="2438280" cy="2187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Line 30"/>
          <p:cNvSpPr/>
          <p:nvPr/>
        </p:nvSpPr>
        <p:spPr>
          <a:xfrm flipH="1" flipV="1">
            <a:off x="2743200" y="3505320"/>
            <a:ext cx="1892160" cy="127296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Line 31"/>
          <p:cNvSpPr/>
          <p:nvPr/>
        </p:nvSpPr>
        <p:spPr>
          <a:xfrm flipH="1" flipV="1">
            <a:off x="5486040" y="2409840"/>
            <a:ext cx="1143000" cy="2238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Line 32"/>
          <p:cNvSpPr/>
          <p:nvPr/>
        </p:nvSpPr>
        <p:spPr>
          <a:xfrm flipH="1">
            <a:off x="2742840" y="5257800"/>
            <a:ext cx="1714680" cy="15228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Line 33"/>
          <p:cNvSpPr/>
          <p:nvPr/>
        </p:nvSpPr>
        <p:spPr>
          <a:xfrm flipH="1" flipV="1">
            <a:off x="2361960" y="4571640"/>
            <a:ext cx="380988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Text Box 34"/>
          <p:cNvSpPr/>
          <p:nvPr/>
        </p:nvSpPr>
        <p:spPr>
          <a:xfrm>
            <a:off x="6172200" y="2144880"/>
            <a:ext cx="28195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Чтобы не усложнять управление качеств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Список документов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SimSun"/>
              </a:rPr>
              <a:t> +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простая нуме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Ссылки на док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Footer Placeholder 3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4CB5-D737-41EA-9A1F-2D6CF00FD4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лючев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868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ть только ОДНА официальная версия «Руководства по качеству»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бота над «Руководством по качеству» никогда не заканчивается, «Руководство» постоянно улучшается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Руководство» должно быть прочитано, понято и принято всем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но должно быть написано ясным, хорошо понятным языком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«Руководстве» должны быть дата и подписи руководителей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дует использовать стандартные заголовки на всех страницах и указывать номер версии каждой процедур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дготовка «Руководства по качеству» – очень большая, но также и очень стоящая и полезная для лаборатории работ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Slide Number Placeholder 2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8718-EEB7-4210-857D-D046BFA187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835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836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0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851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852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853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4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5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6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7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858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0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861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862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3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4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5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6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867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1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872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4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5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876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8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879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1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4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885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7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888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0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891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3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3CEE-C446-4437-9843-615F2DE035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6840" y="399960"/>
            <a:ext cx="7162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уется стандартом ИСО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15189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но стиль и структура не зада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здайте руководящий комит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руководящие принципы для каждого из 12 элементов системы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каждому руководящему принципу сформулируйте цели и распределите ответств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Руководство» должно содержать руководящие принципы в отношении качества и ссылки на процессы и процедур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F2F4-EC66-480F-82D1-DA3A5ECE89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533520" y="426960"/>
            <a:ext cx="81532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SimSun"/>
              </a:rPr>
              <a:t>(пример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рганизация и управл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литика в области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сонал (образование и обучение персонал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 документации, включая записи, поддержание и архив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мещения и окружающая сре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E9F2-674C-49CA-AF45-82CD62195A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0100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правление оборудованием, реагентами, расходными материал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следования и разработк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(факультативно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до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после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8" name="Rectangle 2"/>
          <p:cNvSpPr/>
          <p:nvPr/>
        </p:nvSpPr>
        <p:spPr>
          <a:xfrm>
            <a:off x="152280" y="48996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399D-E2B1-4231-B81B-95A55EB369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1"/>
          <p:cNvSpPr>
            <a:spLocks noGrp="1"/>
          </p:cNvSpPr>
          <p:nvPr>
            <p:ph/>
          </p:nvPr>
        </p:nvSpPr>
        <p:spPr>
          <a:xfrm>
            <a:off x="380880" y="1314360"/>
            <a:ext cx="876312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формационная система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еагирование на жалобы – управление нештатными ситуац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едача информации и другие виды взаимо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едупреждающие и корректирующие действия, внутренний 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опросы эти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2" name="Rectangle 2"/>
          <p:cNvSpPr/>
          <p:nvPr/>
        </p:nvSpPr>
        <p:spPr>
          <a:xfrm>
            <a:off x="152280" y="48996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21D8-DBB5-47A9-AEAD-6AFC1B3BA2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1"/>
          <p:cNvSpPr>
            <a:spLocks noGrp="1"/>
          </p:cNvSpPr>
          <p:nvPr>
            <p:ph/>
          </p:nvPr>
        </p:nvSpPr>
        <p:spPr>
          <a:xfrm>
            <a:off x="685440" y="1577520"/>
            <a:ext cx="807732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тория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иды деятель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фера применения «Руководства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бновление «Руководства»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т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чт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гд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6" name="Rectangle 4"/>
          <p:cNvSpPr/>
          <p:nvPr/>
        </p:nvSpPr>
        <p:spPr>
          <a:xfrm>
            <a:off x="609480" y="5749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Вве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5"/>
          <p:cNvSpPr/>
          <p:nvPr/>
        </p:nvSpPr>
        <p:spPr>
          <a:xfrm>
            <a:off x="3581280" y="3909960"/>
            <a:ext cx="33530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г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оч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0C7C-5C6A-491C-8161-61786A64AE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1"/>
          <p:cNvSpPr>
            <a:spLocks noGrp="1"/>
          </p:cNvSpPr>
          <p:nvPr>
            <p:ph/>
          </p:nvPr>
        </p:nvSpPr>
        <p:spPr>
          <a:xfrm>
            <a:off x="533160" y="1839960"/>
            <a:ext cx="838188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писание организации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юридическая идентифика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требности в ресурс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спределение ответственности и полномоч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1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SimSun"/>
              </a:rPr>
              <a:t>2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Организация и управ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417B-6FFE-465C-A116-A2E7BFAAF9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3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олитика в области качеств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762120" y="1220760"/>
            <a:ext cx="82296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фициальное заявление руководства лаборатории о политике в области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ие, что руководитель лаборатории назначит менеджера по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ает определени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мисс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це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о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6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Olga</cp:lastModifiedBy>
  <dcterms:modified xsi:type="dcterms:W3CDTF">2013-05-20T13:01:10Z</dcterms:modified>
  <cp:revision>72</cp:revision>
  <dc:subject/>
  <dc:title>Example of Written Policy CLSI HS1</dc:title>
</cp:coreProperties>
</file>